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16.png" ContentType="image/png"/>
  <Override PartName="/ppt/media/image15.png" ContentType="image/png"/>
  <Override PartName="/ppt/media/image14.png" ContentType="image/png"/>
  <Override PartName="/ppt/media/image1.jpeg" ContentType="image/jpe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8.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87D63-9BD3-4664-A753-548AEA7748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23B4B-CB70-45FE-BD4C-9B94205116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B819F-707E-45CA-AF94-93D3BCF72A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08286-F7A1-46B2-BFC5-11E7A24ED6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40A7D-7E7F-4558-9873-C874CE7822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45448-6062-4A44-BB0F-5BC00437D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7DDAFD-C854-472A-B056-41B186746A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12AE38-1F03-42C4-9C89-C055B243B0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C80C8B-02D3-4B48-8323-32ECD3E90E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53D915-F588-4CA4-9BAD-1460E7CC09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35A474-E0B6-4402-8BBF-D0BFAAAFD2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024CC1-B9E6-44A0-9273-A66A724E1C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FD17CC-AA45-4C9C-A8E9-A405AC08B2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E5D9F28-1645-48A6-BCCA-466EFEE66C8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A03219F-6F25-4F24-8B3D-11420F86434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467E5-E8C3-4568-989E-A561E8186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70A3F-FD0C-434B-97CE-3F15835023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E18583-2314-445A-8645-374B54ADA6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112AE1-52FF-405D-A081-2D52DFEE40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5838D8-2717-46D7-BCE0-227B47D5D7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6AD10-842D-4C69-A445-80AF8AEE3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B4F204-E2F8-4B56-8FDE-A8E73252BE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FF1DA4-523B-49ED-BB38-AEEB8BAE0A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F9D91-273E-481A-AE82-F91C1E258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08E53-A527-4B40-9A5F-4525EE7A6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EDE80-B9F7-48A2-B4BA-BCD67C43B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E024C-86C5-4B32-BF07-42A8FA5BC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6ED1A1-D823-4127-B902-21741FB216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7ABD0D-6F07-42BB-BECA-A89DB7EEFA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DD3790-B05C-46BC-B63D-9F2785682A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EAB237-B4CF-4DB9-87E0-CD4B94B939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D5A7D2-B34E-46FF-BFC4-6E69DE061A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38AE09-D334-4D44-BBD9-997D52C989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FC0059-8FFB-4FDB-B3E6-A600FFAE49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784664-46B7-4887-9E2F-1FA05FDF9D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EFE3B-CE13-4577-87C4-0DB253E7B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267197-6D32-4C03-A4C2-DD6EB94CDE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E9FC8C-D3FB-438B-A08E-015D97C7A5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5B7896-C317-4B1C-AEE5-D5C3E05114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1B734B-9AB1-4EBE-BD96-BE5630A92A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FFA6D3-220D-450B-8E03-A34A2655E3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1F36AD-E3E4-40D0-A1FE-3D2EA117EF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EA79FB-2DCB-462A-BE23-76EA8D7179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6D4FBC-9FBB-4B3E-8907-523DA8971D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2E47FE-A1D4-40E8-833E-6159EADFA5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439B5C-4FAB-465D-9EA8-C9B47DD05F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77AC9-6BAF-4D37-AEAC-24D15DEEA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F7FE7E-F4F0-47C7-AA1A-94D0A8FC80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5A7B4B-FB1E-494C-8353-FF43CFF2C2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F5DAB7-592F-4EB0-858F-7ED66A11B9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4ABE74-4533-43F2-AD20-B4189A1270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CB7F23-4699-41DB-83D9-A7A436DF40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C21BE7-C058-4447-8557-D070E266A0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995DB5-9618-4029-AF71-609C5A3EB7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63F1D6-A6E7-49FB-B954-2420B29292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BC5309-C0C6-4B1F-A84A-26EB50EDBA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04675C-386F-4FB6-8B39-75066BC506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E84EB-B11C-4258-BEC2-AD250B1D3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17C595-7C11-497A-B012-EC7CCF1F13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50A32E-B1B5-4DF0-B137-FC41E1B218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C0B191-72CD-49EC-BFC4-945988B87D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594BBB-3C8A-4040-8236-12612C6BC1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F02DA1-195A-4090-8CB4-2AE78CB4CC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18AE9A-C281-4559-9618-457B982422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09E81B-2928-4556-9523-96BDCCD80B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20F227-5D8D-4175-A4EB-6BCB595168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2D017F-C64B-4CE9-9B4B-254AE570A1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0341AD-0000-4B57-8A25-F4F232BE03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DF8DC-B9E9-46BD-A120-78C7A7319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67EE33-51D2-412D-BE4E-47F10C0BB0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CE1BD8-DCC7-41E8-A79F-CC1257233E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139592-9FA2-438E-96C5-5A8D167A4E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0867E8-68FE-4E61-9CD4-87E8FEF63A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B667FB-B6E9-4366-8D08-66B53A20AB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560387-2C30-4543-9122-9C191FDD29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57F8EF-8082-404C-83EB-CF41E464AA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2C6DD6-C343-47EF-A0D1-E1DC038975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94BE67-BFF9-4A2D-B84A-6C951DDBE5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2D3C9D-6318-4102-80AE-B3E896337C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F8589-3850-41B8-8BA7-D7120EC69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E947C9-5A07-408E-BFED-B65D76483A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29B248-3357-4FFD-80D1-2EA90001B3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D549FB-FDF6-49B2-BFB1-C63A967245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461DD0-D310-453F-9A3D-704532E4DE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AFB5F1-841B-4287-9E9D-E207EB6D21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360AF0-568D-41E0-8161-6BCB4B08A0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0B2D68-210A-4F0D-822E-AAEB2AFB3A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3C49AC-73F3-47EE-B306-4F055BC2EA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7CB543-49AC-4FCA-BDF0-DD3DD25663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481521-2536-40E0-A780-6FE560C84B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B1A7B-B424-4E7E-9EEB-B88009CC8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C64055-AD2C-43AF-BD9F-4142AA126E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EB486C-4C65-4075-B60D-8E4EB9CB77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FB432F-D707-43A4-B30C-FB32DEDCAA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298593-52D6-4415-A843-E95E40118C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CFB475-1F8C-480E-A51C-D201EE5940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3C8965-D1BA-4ABD-8E2A-7C87EA8201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47337B-6472-463C-9E30-C8FC9DFD66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C69B34-120E-411A-9F58-9383D3F63C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58B1A8-924E-4CA6-A288-2128790B8D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1BA8AB-2381-4C8A-AEF7-1465E6E70B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6F394-F8B3-4B0F-B8C6-0722BB8AF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6CCC5E-5542-4B22-B288-C9008341B9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EC5FBC-FAF1-4C80-9DB1-C79A770A79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B5B964-9EF5-4B57-A5F6-A6BE4E1CC8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9569C3-AFAD-4725-BFD9-6A5967A446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2CC3EC-EB77-42DC-98E8-85CD8C5334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62A9740-97F5-4348-BE0B-F106694211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6E63893-8D32-4DDA-8C67-D2AF62C331F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E31C409-5DCE-4929-A5DB-0940A77FA1D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F1A174-C8EB-40A8-BCB5-BE6A21B711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8F0649-9667-40C0-A78D-2ADC194625D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8AB4B-6476-448D-880E-326AC38DB72C}"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A9833-A50F-43EE-BF68-BA45254D0A30}"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D1701-6EE8-4FE3-8511-7A8564B7E59A}"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C3AD0-7AFD-4FC8-BD26-F4E9FB601C3A}" type="slidenum">
              <a:rPr b="0" lang="en-US"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F70D0-A39E-4C80-AA43-D6D56A5FAA93}"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CFEB9-F1CC-4712-8E4E-CF50D02566DD}"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1A52F-D12F-47C3-9914-52E384619FED}"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581F5-828A-47AD-91EF-05F887588631}"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6CAC8-C962-401A-B2FD-08B1163AFAA9}"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file:///Unit%20Support/Slaves%20Video%20T%20Chart%201.docx" TargetMode="External"/><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6" name="Picture 5" descr="C:\Users\Cookie\AppData\Local\Microsoft\Windows\Temporary Internet Files\Content.IE5\064TH7O8\MCj01509890000[1].wmf"/>
          <p:cNvPicPr/>
          <p:nvPr/>
        </p:nvPicPr>
        <p:blipFill>
          <a:blip r:embed="rId1"/>
          <a:stretch/>
        </p:blipFill>
        <p:spPr>
          <a:xfrm>
            <a:off x="-109440" y="231840"/>
            <a:ext cx="9259920" cy="5857920"/>
          </a:xfrm>
          <a:prstGeom prst="rect">
            <a:avLst/>
          </a:prstGeom>
          <a:ln w="0">
            <a:noFill/>
          </a:ln>
        </p:spPr>
      </p:pic>
      <p:pic>
        <p:nvPicPr>
          <p:cNvPr id="407" name="Rectangle 2" descr=""/>
          <p:cNvPicPr/>
          <p:nvPr/>
        </p:nvPicPr>
        <p:blipFill>
          <a:blip r:embed="rId2"/>
          <a:stretch/>
        </p:blipFill>
        <p:spPr>
          <a:xfrm>
            <a:off x="682560" y="328680"/>
            <a:ext cx="7785000" cy="4017960"/>
          </a:xfrm>
          <a:prstGeom prst="rect">
            <a:avLst/>
          </a:prstGeom>
          <a:ln w="0">
            <a:noFill/>
          </a:ln>
        </p:spPr>
      </p:pic>
      <p:sp>
        <p:nvSpPr>
          <p:cNvPr id="408" name="PlaceHolder 1"/>
          <p:cNvSpPr>
            <a:spLocks noGrp="1"/>
          </p:cNvSpPr>
          <p:nvPr>
            <p:ph type="subTitle"/>
          </p:nvPr>
        </p:nvSpPr>
        <p:spPr>
          <a:xfrm>
            <a:off x="1295280" y="5029200"/>
            <a:ext cx="6400800" cy="1216080"/>
          </a:xfrm>
          <a:prstGeom prst="rect">
            <a:avLst/>
          </a:prstGeom>
          <a:noFill/>
          <a:ln w="0">
            <a:noFill/>
          </a:ln>
        </p:spPr>
        <p:txBody>
          <a:bodyPr anchor="b">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Baveuse"/>
              </a:rPr>
              <a:t>Cookie Wright</a:t>
            </a:r>
            <a:endParaRPr b="0" lang="en-US" sz="2400" spc="-1" strike="noStrike">
              <a:solidFill>
                <a:srgbClr val="4e3b30"/>
              </a:solidFill>
              <a:latin typeface="Franklin Gothic Book"/>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Baveuse"/>
              </a:rPr>
              <a:t>Social Studies</a:t>
            </a:r>
            <a:endParaRPr b="0" lang="en-US" sz="2400" spc="-1" strike="noStrike">
              <a:solidFill>
                <a:srgbClr val="4e3b30"/>
              </a:solidFill>
              <a:latin typeface="Franklin Gothic Book"/>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Baveuse"/>
              </a:rPr>
              <a:t>Grade 5</a:t>
            </a:r>
            <a:endParaRPr b="0" lang="en-US" sz="2400" spc="-1" strike="noStrike">
              <a:solidFill>
                <a:srgbClr val="4e3b30"/>
              </a:solidFill>
              <a:latin typeface="Franklin Gothic Book"/>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Rectangle 2" descr=""/>
          <p:cNvPicPr/>
          <p:nvPr/>
        </p:nvPicPr>
        <p:blipFill>
          <a:blip r:embed="rId1"/>
          <a:stretch/>
        </p:blipFill>
        <p:spPr>
          <a:xfrm>
            <a:off x="103320" y="450720"/>
            <a:ext cx="8894520" cy="1152720"/>
          </a:xfrm>
          <a:prstGeom prst="rect">
            <a:avLst/>
          </a:prstGeom>
          <a:ln w="0">
            <a:noFill/>
          </a:ln>
        </p:spPr>
      </p:pic>
      <p:sp>
        <p:nvSpPr>
          <p:cNvPr id="425"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o become independent and investigative learners</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o enjoy the process of learning</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Title 1" descr=""/>
          <p:cNvPicPr/>
          <p:nvPr/>
        </p:nvPicPr>
        <p:blipFill>
          <a:blip r:embed="rId1"/>
          <a:stretch/>
        </p:blipFill>
        <p:spPr>
          <a:xfrm>
            <a:off x="103320" y="450720"/>
            <a:ext cx="8894520" cy="1152720"/>
          </a:xfrm>
          <a:prstGeom prst="rect">
            <a:avLst/>
          </a:prstGeom>
          <a:ln w="0">
            <a:noFill/>
          </a:ln>
        </p:spPr>
      </p:pic>
      <p:sp>
        <p:nvSpPr>
          <p:cNvPr id="427"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Is my lesson student-centered enough?</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re worksheets where students answer questions, both recall and higher order thinking skills, appropriate or should I make all student handouts graphic organizers?  And how do I do that?</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9" name="Rectangle 2" descr=""/>
          <p:cNvPicPr/>
          <p:nvPr/>
        </p:nvPicPr>
        <p:blipFill>
          <a:blip r:embed="rId2"/>
          <a:stretch/>
        </p:blipFill>
        <p:spPr>
          <a:xfrm>
            <a:off x="103320" y="450720"/>
            <a:ext cx="8894520" cy="1152720"/>
          </a:xfrm>
          <a:prstGeom prst="rect">
            <a:avLst/>
          </a:prstGeom>
          <a:ln w="0">
            <a:noFill/>
          </a:ln>
        </p:spPr>
      </p:pic>
      <p:sp>
        <p:nvSpPr>
          <p:cNvPr id="410" name=""/>
          <p:cNvSpPr txBox="1"/>
          <p:nvPr/>
        </p:nvSpPr>
        <p:spPr>
          <a:xfrm>
            <a:off x="457200" y="1143000"/>
            <a:ext cx="8229600" cy="49831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Students will investigate the lives of slaves to be able to tell why slaves were willing to risk much to escape.  They will watch 2 video clips, one on the life of slaves and one on the Underground Railroad.  They will visit a website that takes them through an escapee slave’s experiences on the Underground Railroad.  As they make this journey, they will write about experiences, feelings, impressions, etc.    The final product will be a student-written and performed play in which they will assume the roles of slaves and discuss their lives and their escape on the Underground Railroad.</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Rectangle 2" descr=""/>
          <p:cNvPicPr/>
          <p:nvPr/>
        </p:nvPicPr>
        <p:blipFill>
          <a:blip r:embed="rId1"/>
          <a:stretch/>
        </p:blipFill>
        <p:spPr>
          <a:xfrm>
            <a:off x="103320" y="450720"/>
            <a:ext cx="8894520" cy="1152720"/>
          </a:xfrm>
          <a:prstGeom prst="rect">
            <a:avLst/>
          </a:prstGeom>
          <a:ln w="0">
            <a:noFill/>
          </a:ln>
        </p:spPr>
      </p:pic>
      <p:sp>
        <p:nvSpPr>
          <p:cNvPr id="412" name=""/>
          <p:cNvSpPr txBox="1"/>
          <p:nvPr/>
        </p:nvSpPr>
        <p:spPr>
          <a:xfrm>
            <a:off x="457200" y="1218960"/>
            <a:ext cx="8229600" cy="5638680"/>
          </a:xfrm>
          <a:prstGeom prst="rect">
            <a:avLst/>
          </a:prstGeom>
          <a:noFill/>
          <a:ln w="0">
            <a:noFill/>
          </a:ln>
        </p:spPr>
        <p:txBody>
          <a:bodyPr anchor="t">
            <a:normAutofit/>
          </a:bodyPr>
          <a:p>
            <a:pPr marL="343080" indent="-3430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Verdana"/>
              </a:rPr>
              <a:t>Essential Question</a:t>
            </a:r>
            <a:endParaRPr b="0" lang="en-US" sz="2400" spc="-1" strike="noStrike">
              <a:solidFill>
                <a:srgbClr val="4e3b30"/>
              </a:solidFill>
              <a:latin typeface="Franklin Gothic Book"/>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Verdana"/>
              </a:rPr>
              <a:t> </a:t>
            </a:r>
            <a:r>
              <a:rPr b="0" lang="en-US" sz="2400" spc="-1" strike="noStrike">
                <a:solidFill>
                  <a:srgbClr val="4e3b30"/>
                </a:solidFill>
                <a:latin typeface="Verdana"/>
              </a:rPr>
              <a:t>What is the price of freedom</a:t>
            </a:r>
            <a:r>
              <a:rPr b="0" lang="en-US" sz="1600" spc="-1" strike="noStrike">
                <a:solidFill>
                  <a:srgbClr val="4e3b30"/>
                </a:solidFill>
                <a:latin typeface="Verdana"/>
              </a:rPr>
              <a:t>?</a:t>
            </a:r>
            <a:endParaRPr b="0" lang="en-US" sz="1600" spc="-1" strike="noStrike">
              <a:solidFill>
                <a:srgbClr val="4e3b30"/>
              </a:solidFill>
              <a:latin typeface="Franklin Gothic Book"/>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e3b30"/>
              </a:solidFill>
              <a:latin typeface="Franklin Gothic Book"/>
            </a:endParaRPr>
          </a:p>
          <a:p>
            <a:pPr marL="343080" indent="-3430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Verdana"/>
              </a:rPr>
              <a:t>Unit Questions</a:t>
            </a:r>
            <a:endParaRPr b="0" lang="en-US" sz="2400" spc="-1" strike="noStrike">
              <a:solidFill>
                <a:srgbClr val="4e3b3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 </a:t>
            </a:r>
            <a:r>
              <a:rPr b="0" lang="en-US" sz="2400" spc="-1" strike="noStrike">
                <a:solidFill>
                  <a:srgbClr val="4e3b30"/>
                </a:solidFill>
                <a:latin typeface="Verdana"/>
              </a:rPr>
              <a:t>If you were enslaved, what would you be willing to give up to gain your freedom?</a:t>
            </a:r>
            <a:endParaRPr b="0" lang="en-US" sz="2400" spc="-1" strike="noStrike">
              <a:solidFill>
                <a:srgbClr val="4e3b3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 </a:t>
            </a:r>
            <a:r>
              <a:rPr b="0" lang="en-US" sz="2400" spc="-1" strike="noStrike">
                <a:solidFill>
                  <a:srgbClr val="4e3b30"/>
                </a:solidFill>
                <a:latin typeface="Verdana"/>
              </a:rPr>
              <a:t>Were the risks involved in escaping worth it?</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43080" indent="-3430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Verdana"/>
              </a:rPr>
              <a:t>Content Questions</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Verdana"/>
              </a:rPr>
              <a:t>Why were slaves so anxious to escape?</a:t>
            </a:r>
            <a:endParaRPr b="0" lang="en-US" sz="2400" spc="-1" strike="noStrike">
              <a:solidFill>
                <a:srgbClr val="4e3b3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 </a:t>
            </a:r>
            <a:r>
              <a:rPr b="0" lang="en-US" sz="2400" spc="-1" strike="noStrike">
                <a:solidFill>
                  <a:srgbClr val="4e3b30"/>
                </a:solidFill>
                <a:latin typeface="Verdana"/>
              </a:rPr>
              <a:t>Who were some of the people who helped slaves escape?</a:t>
            </a:r>
            <a:endParaRPr b="0" lang="en-US" sz="2400" spc="-1" strike="noStrike">
              <a:solidFill>
                <a:srgbClr val="4e3b3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 </a:t>
            </a:r>
            <a:endParaRPr b="0" lang="en-US" sz="2400" spc="-1" strike="noStrike">
              <a:solidFill>
                <a:srgbClr val="4e3b30"/>
              </a:solidFill>
              <a:latin typeface="Franklin Gothic Boo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e3b30"/>
              </a:solidFill>
              <a:latin typeface="Franklin Gothic Book"/>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Rectangle 2" descr=""/>
          <p:cNvPicPr/>
          <p:nvPr/>
        </p:nvPicPr>
        <p:blipFill>
          <a:blip r:embed="rId1"/>
          <a:stretch/>
        </p:blipFill>
        <p:spPr>
          <a:xfrm>
            <a:off x="103320" y="450720"/>
            <a:ext cx="8894520" cy="1152720"/>
          </a:xfrm>
          <a:prstGeom prst="rect">
            <a:avLst/>
          </a:prstGeom>
          <a:ln w="0">
            <a:noFill/>
          </a:ln>
        </p:spPr>
      </p:pic>
      <p:sp>
        <p:nvSpPr>
          <p:cNvPr id="414"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reativity and Innovation-writing a play </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ritical Thinking and Problem Solving-working through activities requiring decision-making</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ommunication and Collaboration-working together on activities and the play</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ICT Literacy-using technology to research and evaluate information</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Initiative and Self-Direction-defining and completing tasks, utilizing time efficiently</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ocial and Cross-Cultural Skills-working appropriately with others</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Title 1" descr=""/>
          <p:cNvPicPr/>
          <p:nvPr/>
        </p:nvPicPr>
        <p:blipFill>
          <a:blip r:embed="rId1"/>
          <a:stretch/>
        </p:blipFill>
        <p:spPr>
          <a:xfrm>
            <a:off x="103320" y="450720"/>
            <a:ext cx="8894520" cy="1152720"/>
          </a:xfrm>
          <a:prstGeom prst="rect">
            <a:avLst/>
          </a:prstGeom>
          <a:ln w="0">
            <a:noFill/>
          </a:ln>
        </p:spPr>
      </p:pic>
      <p:sp>
        <p:nvSpPr>
          <p:cNvPr id="416"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tudents will be able to: </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Describe the life of a slave and relate the desire for freedom.</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ell what the Underground Railroad was, how it worked, and who some of the important people involved were.</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Title 1" descr=""/>
          <p:cNvPicPr/>
          <p:nvPr/>
        </p:nvPicPr>
        <p:blipFill>
          <a:blip r:embed="rId1"/>
          <a:stretch/>
        </p:blipFill>
        <p:spPr>
          <a:xfrm>
            <a:off x="103320" y="450720"/>
            <a:ext cx="8894520" cy="1152720"/>
          </a:xfrm>
          <a:prstGeom prst="rect">
            <a:avLst/>
          </a:prstGeom>
          <a:ln w="0">
            <a:noFill/>
          </a:ln>
        </p:spPr>
      </p:pic>
      <p:sp>
        <p:nvSpPr>
          <p:cNvPr id="418" name=""/>
          <p:cNvSpPr txBox="1"/>
          <p:nvPr/>
        </p:nvSpPr>
        <p:spPr>
          <a:xfrm>
            <a:off x="228600" y="1523880"/>
            <a:ext cx="8686800" cy="45259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Prior-2KWLs-slavery and Underground Railroad</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During-Checklist, Graphic organizers, Question worksheets, Scavenger hunt, Reflection, Blog</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ad1f1f"/>
                </a:solidFill>
                <a:uFillTx/>
                <a:latin typeface="Franklin Gothic Book"/>
                <a:hlinkClick r:id="rId2"/>
              </a:rPr>
              <a:t>Click here for T chart.</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fter-Play (rubric),  student portfolio containing graphic organizers, scavenger hunt, and reflections</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Rectangle 2" descr=""/>
          <p:cNvPicPr/>
          <p:nvPr/>
        </p:nvPicPr>
        <p:blipFill>
          <a:blip r:embed="rId1"/>
          <a:stretch/>
        </p:blipFill>
        <p:spPr>
          <a:xfrm>
            <a:off x="-6480" y="-79200"/>
            <a:ext cx="8242560" cy="1688760"/>
          </a:xfrm>
          <a:prstGeom prst="rect">
            <a:avLst/>
          </a:prstGeom>
          <a:ln w="0">
            <a:noFill/>
          </a:ln>
        </p:spPr>
      </p:pic>
      <p:sp>
        <p:nvSpPr>
          <p:cNvPr id="420" name=""/>
          <p:cNvSpPr txBox="1"/>
          <p:nvPr/>
        </p:nvSpPr>
        <p:spPr>
          <a:xfrm>
            <a:off x="0" y="1295280"/>
            <a:ext cx="8229600" cy="5562720"/>
          </a:xfrm>
          <a:prstGeom prst="rect">
            <a:avLst/>
          </a:prstGeom>
          <a:noFill/>
          <a:ln w="0">
            <a:noFill/>
          </a:ln>
        </p:spPr>
        <p:txBody>
          <a:bodyPr anchor="t">
            <a:normAutofit fontScale="99000"/>
          </a:bodyPr>
          <a:p>
            <a:pPr marL="339480" indent="-33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Purpose of the Assessment</a:t>
            </a:r>
            <a:endParaRPr b="0" lang="en-US" sz="2400" spc="-1" strike="noStrike">
              <a:solidFill>
                <a:srgbClr val="4e3b30"/>
              </a:solidFill>
              <a:latin typeface="Franklin Gothic Book"/>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Verdana"/>
              </a:rPr>
              <a:t>     </a:t>
            </a:r>
            <a:r>
              <a:rPr b="0" lang="en-US" sz="2400" spc="-1" strike="noStrike">
                <a:solidFill>
                  <a:srgbClr val="4e3b30"/>
                </a:solidFill>
                <a:latin typeface="Franklin Gothic Book"/>
              </a:rPr>
              <a:t>To gather information about what my students already know and what they want to know about slavery and the Underground Railroad</a:t>
            </a:r>
            <a:endParaRPr b="0" lang="en-US" sz="2400" spc="-1" strike="noStrike">
              <a:solidFill>
                <a:srgbClr val="4e3b30"/>
              </a:solidFill>
              <a:latin typeface="Franklin Gothic Book"/>
            </a:endParaRPr>
          </a:p>
          <a:p>
            <a:pPr marL="339480" indent="-33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What do I want to learn from my students?</a:t>
            </a:r>
            <a:endParaRPr b="0" lang="en-US" sz="2400" spc="-1" strike="noStrike">
              <a:solidFill>
                <a:srgbClr val="4e3b30"/>
              </a:solidFill>
              <a:latin typeface="Franklin Gothic Book"/>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      </a:t>
            </a:r>
            <a:r>
              <a:rPr b="0" lang="en-US" sz="2400" spc="-1" strike="noStrike">
                <a:solidFill>
                  <a:srgbClr val="4e3b30"/>
                </a:solidFill>
                <a:latin typeface="Franklin Gothic Book"/>
              </a:rPr>
              <a:t>I want to know what they know about the lives of slaves that would cause them to risk their lives in order to escape and what knowledge they have of the Underground Railroad.</a:t>
            </a:r>
            <a:endParaRPr b="0" lang="en-US" sz="2400" spc="-1" strike="noStrike">
              <a:solidFill>
                <a:srgbClr val="4e3b30"/>
              </a:solidFill>
              <a:latin typeface="Franklin Gothic Book"/>
            </a:endParaRPr>
          </a:p>
          <a:p>
            <a:pPr marL="339480" indent="-33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How have I tried to promote higher-order thinking skills?</a:t>
            </a:r>
            <a:endParaRPr b="0" lang="en-US" sz="2400" spc="-1" strike="noStrike">
              <a:solidFill>
                <a:srgbClr val="4e3b30"/>
              </a:solidFill>
              <a:latin typeface="Franklin Gothic Book"/>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     </a:t>
            </a:r>
            <a:r>
              <a:rPr b="0" lang="en-US" sz="2400" spc="-1" strike="noStrike">
                <a:solidFill>
                  <a:srgbClr val="4e3b30"/>
                </a:solidFill>
                <a:latin typeface="Franklin Gothic Book"/>
              </a:rPr>
              <a:t>I ask students how they would feel if they were treated as slaves and what would finally cause them to run away.</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1"/>
          <p:cNvSpPr/>
          <p:nvPr/>
        </p:nvSpPr>
        <p:spPr>
          <a:xfrm>
            <a:off x="380880" y="838080"/>
            <a:ext cx="80773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Co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How does the assessment information help me and my students plan for upcoming activities in the un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      </a:t>
            </a:r>
            <a:r>
              <a:rPr b="0" lang="en-US" sz="2400" spc="-1" strike="noStrike">
                <a:solidFill>
                  <a:srgbClr val="000000"/>
                </a:solidFill>
                <a:latin typeface="Franklin Gothic Book"/>
              </a:rPr>
              <a:t>Misconceptions need to be addressed.  Activities need to be designed to ensure that correct information is received and student questions answered.  Teams will be assigned based on ability levels and levels of understand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 </a:t>
            </a:r>
            <a:r>
              <a:rPr b="1" lang="en-US" sz="2400" spc="-1" strike="noStrike">
                <a:solidFill>
                  <a:srgbClr val="000000"/>
                </a:solidFill>
                <a:latin typeface="Franklin Gothic Book"/>
              </a:rPr>
              <a:t>What feedback or additional ideas do I ne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How and when do you suggest that students fill in the L section…as they find information or at the end of the un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Rectangle 2" descr=""/>
          <p:cNvPicPr/>
          <p:nvPr/>
        </p:nvPicPr>
        <p:blipFill>
          <a:blip r:embed="rId1"/>
          <a:stretch/>
        </p:blipFill>
        <p:spPr>
          <a:xfrm>
            <a:off x="103320" y="450720"/>
            <a:ext cx="8894520" cy="1152720"/>
          </a:xfrm>
          <a:prstGeom prst="rect">
            <a:avLst/>
          </a:prstGeom>
          <a:ln w="0">
            <a:noFill/>
          </a:ln>
        </p:spPr>
      </p:pic>
      <p:sp>
        <p:nvSpPr>
          <p:cNvPr id="423"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reate a comprehensible PBL lesson that actively engages students</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Provide opportunities for students to direct their own learning</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Learn and become comfortable with new technologies that I can share with students</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4T02:09:36Z</dcterms:created>
  <dc:creator>slshottx</dc:creator>
  <dc:description/>
  <dc:language>en-US</dc:language>
  <cp:lastModifiedBy>Bob Wright</cp:lastModifiedBy>
  <dcterms:modified xsi:type="dcterms:W3CDTF">2009-04-16T23:34:15Z</dcterms:modified>
  <cp:revision>32</cp:revision>
  <dc:subject/>
  <dc:title>Unit Plan Portfolio</dc:title>
</cp:coreProperties>
</file>